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3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2.png" ContentType="image/png"/>
  <Override PartName="/ppt/media/image3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9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0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B94A-0C56-4A47-A3C1-15C2E3A4F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42B0-7AF9-4D6A-BD0B-2A664E2BE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B9F1-8233-4CA3-9DD4-233F914EC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5AFC-E219-464A-8F78-96ACD4ED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F78-D3FA-4734-826D-64096931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379-33E9-45B4-8376-A738CE10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50E-5746-4BB7-A812-5DB529CD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9141-69B5-4B67-8AA8-97342125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7696-85F2-4EB5-BC86-76EDB746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9BD6-4DD5-4BA1-A1FC-FDB3256C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10F5-266C-4FAB-BCF6-CE688677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6677-F4BD-459F-84DC-0688E64D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09EC-BAC7-403C-8D4A-215D6646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8101-52AB-408B-999B-319D4BBC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497-93D5-4FEA-A90E-51059925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A314-4E74-409D-9B72-A49B4B32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1461-4E9F-4D9F-9BA0-867CE8C4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A9B8-2814-4AFB-9D2C-568712DD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AAED-AA16-4685-8993-C6071C10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F028-E4DA-42EE-8414-3C0094FC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E3688-9FAA-4390-924B-671B5468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2B708-2E60-43E1-8829-04B056BE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A4914-E094-4930-A7DA-A1543C55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847AF-70CB-47D4-9661-E9AAB18A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A1E16-058D-4B99-A383-4F59B6AF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E2A-0D40-4E52-BA63-FAD4734F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EBC30-D15C-4949-8BCF-C68D6FB6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7B801-1428-48DA-909E-092C959B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95D19-C7F8-4AAF-B9CD-F2AF80BC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F177B-6077-4961-A0BE-0D557C22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99880-F5B7-4FD0-B206-7FFAAA3E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D20F5-3C7F-4BCD-B673-FF9CAB46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9AA6-24C1-45B4-9A6B-D92CA49B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CD9-49EC-4864-B027-BF1E6A7C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3F964A-996A-4621-BEF7-AB91DDA0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6DD-29B4-403E-93EE-DB47FC06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93F34-CB74-41D7-BB2C-88224B16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B452F0-FBE3-4D7E-A547-47FDC3D4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3DC3E7-C4C8-4B21-AC99-8E3C77CA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0B3A9-86B5-4F9E-A02E-7841345C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8E367-45F3-430E-AE63-EE0ABBF5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335D1-A734-4049-B199-F7839CF0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64F1D-A5AB-454C-8A2A-9B28C57A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86081-5E8E-4094-AAD6-406AAABA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254EB-526F-45E5-BE7C-A11B8971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C11C2-C03C-4CB6-BDD2-6B313B2B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011-C682-4CDA-B683-D51A5872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2EDDE0-5A48-4BC1-9A2B-D224589E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ADBE8-22B0-4016-90DB-BB58D359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BAADC0-6E39-4218-9A76-10A51B3F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E08BE-D31D-4AF4-A83B-054CB2CC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65BA3E-BCEC-4B36-9B0C-29640BF7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8FACB-37A0-48F6-B8C3-4A1B8FD8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5504E-F23E-4AD1-BC7D-5C302641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A773FB-CC1A-4541-8D02-C872B507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C814EF-2168-44D7-8C8A-4BF7B5D6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8908E0-52E0-4D60-A57A-879E437B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DB0-BC63-4375-A922-43B35221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07A55-1A05-4667-8850-0C58F2BC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1F212-8777-4F1C-9A90-BABEEAC3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D99046-120D-42F4-B64F-DD64CB61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4F3-03CB-44A3-84F0-F4479FB1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EC7-3150-4010-B517-92CDB7F1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4B86-8D3C-4B29-B108-684C8840D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harge I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449F-A05C-4033-ADF7-91189E914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A9FC-1534-41D9-82CB-5EF10412E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o Your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5B72-4DE2-427A-AD72-E7B1B28412D8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8AED-F532-4E6B-8076-4BBFAC1A6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logo.jpg"/>
          <p:cNvPicPr/>
          <p:nvPr/>
        </p:nvPicPr>
        <p:blipFill>
          <a:blip r:embed="rId3"/>
          <a:stretch/>
        </p:blipFill>
        <p:spPr>
          <a:xfrm>
            <a:off x="6477120" y="614376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679284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To Your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8534520" y="6095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E1DC-D9C2-4F39-9E6A-FAC39D9ADE12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79C9-5C5E-42B5-B248-B0952B6F5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ftc.gov/idtheft/" TargetMode="Externa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To Your Credit title slide with FDIC Money Smart logo and module logo including credit reports and loan applic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76320" y="838080"/>
            <a:ext cx="495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</a:rPr>
              <a:t>To Your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152280" y="1905120"/>
            <a:ext cx="426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132f5a"/>
                </a:solidFill>
                <a:latin typeface="Helvetica Neue"/>
              </a:rPr>
              <a:t>Credit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a Credit Repor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tells lender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o 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much debt you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ther you have made payments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ther there is negative information about you in public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ing Agen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Group 4" descr=""/>
          <p:cNvPicPr/>
          <p:nvPr/>
        </p:nvPicPr>
        <p:blipFill>
          <a:blip r:embed="rId1"/>
          <a:stretch/>
        </p:blipFill>
        <p:spPr>
          <a:xfrm>
            <a:off x="2230560" y="2219400"/>
            <a:ext cx="3755880" cy="1365120"/>
          </a:xfrm>
          <a:prstGeom prst="rect">
            <a:avLst/>
          </a:prstGeom>
          <a:ln w="0">
            <a:noFill/>
          </a:ln>
        </p:spPr>
      </p:pic>
      <p:pic>
        <p:nvPicPr>
          <p:cNvPr id="290" name="Group 13" descr=""/>
          <p:cNvPicPr/>
          <p:nvPr/>
        </p:nvPicPr>
        <p:blipFill>
          <a:blip r:embed="rId2"/>
          <a:stretch/>
        </p:blipFill>
        <p:spPr>
          <a:xfrm>
            <a:off x="622440" y="1042920"/>
            <a:ext cx="3760560" cy="135900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6" descr=""/>
          <p:cNvPicPr/>
          <p:nvPr/>
        </p:nvPicPr>
        <p:blipFill>
          <a:blip r:embed="rId3"/>
          <a:stretch/>
        </p:blipFill>
        <p:spPr>
          <a:xfrm>
            <a:off x="3822840" y="3365640"/>
            <a:ext cx="3760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ing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quiri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ublic record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5" descr="Experian credit report"/>
          <p:cNvPicPr/>
          <p:nvPr/>
        </p:nvPicPr>
        <p:blipFill>
          <a:blip r:embed="rId1"/>
          <a:stretch/>
        </p:blipFill>
        <p:spPr>
          <a:xfrm>
            <a:off x="6172200" y="2057400"/>
            <a:ext cx="201924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blic Record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tion may inclu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paid tax l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ll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nkrupt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7" descr="Fingers on keyboard"/>
          <p:cNvPicPr/>
          <p:nvPr/>
        </p:nvPicPr>
        <p:blipFill>
          <a:blip r:embed="rId1"/>
          <a:srcRect l="10754" t="0" r="7524" b="0"/>
          <a:stretch/>
        </p:blipFill>
        <p:spPr>
          <a:xfrm>
            <a:off x="5562720" y="1523880"/>
            <a:ext cx="28954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ersonal Bankrupt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apter 13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tor keeps all of his or her property and makes regular payments on the deb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apter 7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tor must give up certain property to the cr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mpact of Bankrupt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should be your last resort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kruptc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mains on your credit report for 7–10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kes it hard for you to get futur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5" descr="One hundred dollar bills in background and troubled man in forefront"/>
          <p:cNvPicPr/>
          <p:nvPr/>
        </p:nvPicPr>
        <p:blipFill>
          <a:blip r:embed="rId1"/>
          <a:stretch/>
        </p:blipFill>
        <p:spPr>
          <a:xfrm>
            <a:off x="3352680" y="4114800"/>
            <a:ext cx="2248200" cy="14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s Do Not Contain What Informati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ecking and savings account balan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o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l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urchases made with cash or chec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usiness account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ace, gender, religion, or national orig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riving recor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 U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s are used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obtain loans and othe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get certain kinds of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or housing (rental applications and mortg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obtain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7086600" y="533520"/>
            <a:ext cx="16002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asons a Loan Application May Be Deni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987480"/>
            <a:ext cx="5181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problems or poor 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17" descr="Woman working on paying her bills"/>
          <p:cNvPicPr/>
          <p:nvPr/>
        </p:nvPicPr>
        <p:blipFill>
          <a:blip r:embed="rId1"/>
          <a:stretch/>
        </p:blipFill>
        <p:spPr>
          <a:xfrm>
            <a:off x="5943600" y="2057400"/>
            <a:ext cx="228600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number that helps lenders determine your credi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wo typ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Fair Isaac Corporation (FICO)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0" descr="Circle graphic containing a document icon"/>
          <p:cNvPicPr/>
          <p:nvPr/>
        </p:nvPicPr>
        <p:blipFill>
          <a:blip r:embed="rId1"/>
          <a:stretch/>
        </p:blipFill>
        <p:spPr>
          <a:xfrm>
            <a:off x="6705720" y="3124080"/>
            <a:ext cx="1904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62520" y="16765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round Ru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ro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CO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imary method used to assess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core range: 300 to 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score is based o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st payment history: 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utstanding debt: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long you have had credit: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New applications for credit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es of credit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antage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1426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39680" indent="-139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ewer credit scoring syst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core range: 501 to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680" indent="-139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lso groups scores by letter categori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= 901-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 = 801-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 = 701-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 = 601-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 = 501-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680" indent="-139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Good and Bad Credit Sc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higher your credit score, the more likely you are to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Get a better interest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y less for borrowing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credit report regularly to ensure accuracy of your information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Figure standing before a chart with the data arrow rising"/>
          <p:cNvPicPr/>
          <p:nvPr/>
        </p:nvPicPr>
        <p:blipFill>
          <a:blip r:embed="rId1"/>
          <a:stretch/>
        </p:blipFill>
        <p:spPr>
          <a:xfrm>
            <a:off x="7162920" y="2133720"/>
            <a:ext cx="17874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qui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oluntary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oluntary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cessive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quiries when rate shopp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1" descr="Symbolism of technology with moving documents and the word &quot;download&quot;"/>
          <p:cNvPicPr/>
          <p:nvPr/>
        </p:nvPicPr>
        <p:blipFill>
          <a:blip r:embed="rId1"/>
          <a:stretch/>
        </p:blipFill>
        <p:spPr>
          <a:xfrm>
            <a:off x="5867280" y="1600200"/>
            <a:ext cx="250344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her Factors Influencing Lend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other factors might influence a lender’s decision to make a loan besides your credit report and credit scor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ngth of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Earned income credit (EIC) table"/>
          <p:cNvPicPr/>
          <p:nvPr/>
        </p:nvPicPr>
        <p:blipFill>
          <a:blip r:embed="rId1"/>
          <a:stretch/>
        </p:blipFill>
        <p:spPr>
          <a:xfrm>
            <a:off x="1676520" y="3352680"/>
            <a:ext cx="2246040" cy="1494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Who Poses the Most Credit Ris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1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termine if each person is a credit risk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533160" y="11430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is your right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l: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isit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l: The phone numbers that may be listed in your credit card privacy no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ing Ou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5" descr="Man talking on cell phone and looking down at a piece of paper in his hands"/>
          <p:cNvPicPr/>
          <p:nvPr/>
        </p:nvPicPr>
        <p:blipFill>
          <a:blip r:embed="rId2"/>
          <a:stretch/>
        </p:blipFill>
        <p:spPr>
          <a:xfrm>
            <a:off x="7086600" y="533520"/>
            <a:ext cx="1447920" cy="216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quest Your Credit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eive a copy of your credit score from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redit reporting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anies that want to sell you your credit score as part of a package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eive a free credit repor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nce every 12 mo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n you apply for a consumer loan secured by your personal dw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isit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annualcreditreport.c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l: 877-322-82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l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nual Credit Report Request Serv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. O. Box 10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tlanta, GA 30348-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ree Annual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Maria’s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2 in the Participant Guid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fine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credit is importa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purpose of a credit report and how it is us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rder a copy of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d and analyze your credit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fferentiate between good and bad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ample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51920" y="11430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ersonal/ Consumer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ersonal/ Consumer State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Account summar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quiri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ublic Record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ample credit report"/>
          <p:cNvPicPr/>
          <p:nvPr/>
        </p:nvPicPr>
        <p:blipFill>
          <a:blip r:embed="rId1"/>
          <a:stretch/>
        </p:blipFill>
        <p:spPr>
          <a:xfrm>
            <a:off x="3581280" y="990720"/>
            <a:ext cx="5172120" cy="53337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7"/>
          <p:cNvSpPr/>
          <p:nvPr/>
        </p:nvSpPr>
        <p:spPr>
          <a:xfrm>
            <a:off x="3645000" y="1066680"/>
            <a:ext cx="5041800" cy="9907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645000" y="2057400"/>
            <a:ext cx="5041800" cy="5335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3643200" y="2576520"/>
            <a:ext cx="5043600" cy="306216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3645000" y="5626080"/>
            <a:ext cx="5041800" cy="62244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John Q. Consu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3 in the Participant Guid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se the sample credit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hecking for Err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is your responsibility t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tact the credit reporting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rite a letter disputing th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ing agencies must conduct an investigation within 30 days of receiving your letter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6" descr="Circle graphic with an envelope in the center"/>
          <p:cNvPicPr/>
          <p:nvPr/>
        </p:nvPicPr>
        <p:blipFill>
          <a:blip r:embed="rId1"/>
          <a:stretch/>
        </p:blipFill>
        <p:spPr>
          <a:xfrm>
            <a:off x="7848720" y="533520"/>
            <a:ext cx="11430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inimize Your Risk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tect your personal information (SSN, PINs, passwords, credit/debit cards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tect your incoming/outgoing mai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direct depos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your financial trash “clean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an eye on your bank statements and credit card bil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7391520" y="3124080"/>
            <a:ext cx="13716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inimize Your Risk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void identity theft on the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credit record annually and report fraudulent activi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sources from the Federal Trade Commission (FTC)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ftc.gov/idthe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Down arrow next to a smiling figure pointing down"/>
          <p:cNvPicPr/>
          <p:nvPr/>
        </p:nvPicPr>
        <p:blipFill>
          <a:blip r:embed="rId2"/>
          <a:stretch/>
        </p:blipFill>
        <p:spPr>
          <a:xfrm>
            <a:off x="6858000" y="4343400"/>
            <a:ext cx="1371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action immediate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cr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llow up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ID Theft Affidavit a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complaint with the F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verification that disputed accounts have been closed and fraudulent debts dis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5" descr="Police badge and ID"/>
          <p:cNvPicPr/>
          <p:nvPr/>
        </p:nvPicPr>
        <p:blipFill>
          <a:blip r:embed="rId2"/>
          <a:stretch/>
        </p:blipFill>
        <p:spPr>
          <a:xfrm>
            <a:off x="693432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683480" y="237960"/>
            <a:ext cx="1469880" cy="10573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lace a fraud alert on your credit fil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itial fraud alert – 9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tended fraud alert –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lace a security freeze on your credit fil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tricts access to your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y delay, interfere with, or prohibit the timely approval of subsequent requests or applications fo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ilding Your Credit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ly for a small bank lo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ly for credit at a local sto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large down payments and negotiate credit pay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 friend or relative to cosign a loan for yo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ilding Your Credit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ay your bills on ti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lenders to review utility and other bills to grant you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your debt levels lo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regular deposits into your savings accou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pairing Your Own Cred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1430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et a copy of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act the credit reporting agency and creditors to report err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opting out of unsolicited offers for credit to avoid getting into more deb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10" descr="Man using a laptop"/>
          <p:cNvPicPr/>
          <p:nvPr/>
        </p:nvPicPr>
        <p:blipFill>
          <a:blip r:embed="rId1"/>
          <a:stretch/>
        </p:blipFill>
        <p:spPr>
          <a:xfrm>
            <a:off x="6934320" y="1676520"/>
            <a:ext cx="15699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implications of good and bad credit sco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ways to build and repair your credit histor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correct errors on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guard against identity thef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Counseling Agen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view several companies before signing a contrac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sure they are repu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questions about services, fees, and a repayment pl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4" descr="Woman handing completed paperwork back to a counselor"/>
          <p:cNvPicPr/>
          <p:nvPr/>
        </p:nvPicPr>
        <p:blipFill>
          <a:blip r:embed="rId1"/>
          <a:stretch/>
        </p:blipFill>
        <p:spPr>
          <a:xfrm>
            <a:off x="2968560" y="4260960"/>
            <a:ext cx="2871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air Sca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one can remove accurate information from your credit report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can take years to repair bad credit legitimately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one can create a new identity for you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egitimate companies provide a service before requesting payment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can order your credit report yourself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ing a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rdering a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uilding and repairing your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otecting yourself from identity theft and credit repair sc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Credit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35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ich response would a financial professional use to define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edi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 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given to you that you do not have to pa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you borrow to pay for things but must also pa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cognition for a job well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at long scrolling text at the end of a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Defin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edi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i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ability to borrow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metimes called a lo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promise you make to pay back money you borrowed with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5" descr="Credit card and dollar symbol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mportance of Cred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052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y do you think credit is importan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useful in times of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convenient when you do not have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allows you to pay for large purchase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can help you obtain employment, housing, and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Case: Marvin’s Des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rvin makes and sells writing desks. He wants to borrow $1,000 for a new band saw and an electric sander. He obtains a loan from the bank, and pledges his new equipment as collateral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Marvin does not (or cannot) pay back the loan, what will the lender probably 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11" descr="Man sanding wood"/>
          <p:cNvPicPr/>
          <p:nvPr/>
        </p:nvPicPr>
        <p:blipFill>
          <a:blip r:embed="rId1"/>
          <a:stretch/>
        </p:blipFill>
        <p:spPr>
          <a:xfrm>
            <a:off x="457200" y="5029200"/>
            <a:ext cx="188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National Technologies Inc.</cp:lastModifiedBy>
  <dcterms:modified xsi:type="dcterms:W3CDTF">2010-11-01T14:33:25Z</dcterms:modified>
  <cp:revision>506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F4F99E60CAF94ABC78279498A0B61D</vt:lpwstr>
  </property>
</Properties>
</file>